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D83B2-6D21-4167-9A2A-D5CE5B6B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0EF72-3AA6-436A-9A97-65FC8009D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8851B77-32AE-4038-8920-24C2858AFB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CC4C099-D685-4405-B093-9618807CDE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3BAE33-C9DB-4B29-9AA5-608907B2CB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5EAF62-0446-40D8-8821-3B7E52CCB8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070DFC-F77D-4015-9BD7-8233EBA4255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BDD2AE-747C-417D-9C04-1752D73C4B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4587F81-B6B0-4F4A-B6C2-9C0B81A3E3F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5B146E9-A283-40E0-8DE5-9EDE0DACD77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F0560D5-3341-47B6-9922-AEB47A7636C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AB1F7D-0108-4FBC-97BF-F967AB0C8C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30653-78EA-44C2-8D06-80B4026A7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40553B-E40F-4017-BD9B-D3266C0DED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25C5EB-7FEF-48D0-9448-DDC89CE3AAE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3C5AF3-EE27-4457-8F05-12B72FFA63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C94C15-C10D-48BC-9353-295B76C702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A19C9A-CE98-481A-8F68-FE90F73EDF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D3EADE-362D-47FA-9B0A-044BFBD5C9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EF4B5A-01CF-4E9B-B156-C958954340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032AE-069A-4F0C-879D-1575FDD140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5BC7E1-C7C2-43D7-A788-05F51416DC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FBD3DD-9BB8-475C-AE1B-569F3C35AB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4E30D-A398-4D1C-8D87-CCA075725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321024C-51DA-4CD6-8C84-CDC37212A7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9ED9027-FE1C-4B83-86FA-FC6548A602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EF6D93-F2F2-4E7E-87C4-34666E7C57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7F9F91-45FD-4FF7-ACAA-1FE34CD988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D6FB71-2BA4-4E82-9517-4693A509F8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31ED63-0334-40C1-9276-21DBEC6AAF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F76F2A-BFD2-46CC-BBB1-33C1D94D3D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55C025-CD60-492C-9A33-110BB3FAAB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C1C416-615F-4192-BC32-1E5F44CD73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A3FFF9-8D1B-4FAE-BED1-DDC9193E5E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A99859-8DE4-419F-ABA3-E44C04487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A3DCE4-537E-4CD5-B63D-DF3B0F1FE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1958AE-EFF4-4292-B282-FAF3AB68F3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F02C6F-F70A-4FF5-950C-E1BD795020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04F798-CCC2-4DDE-BA92-8AFC0C50B4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5AC126-88A1-49CC-B769-319B67B884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FF5483-0E40-4958-91CF-AF25406C2A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48E199-55A4-43AB-B734-B3307C49EF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56D965-DFC5-432F-8631-E4A2FF33D2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224B42-7F61-4BC1-973D-56DE683095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FE6E2C-0509-48B9-ADC4-3AD2D626B9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C8F517-EFFF-422E-963C-536DE028B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985FF7-6F5A-4965-9F66-59499CA916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89BAAA-C660-4920-B65C-ECB652B0D0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312D37-0412-4F14-8F5B-95B5CFF874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DA2714-C0A8-46B8-A80F-6A7F2216A4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055D75-4537-417D-A804-F7269DBB9C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476AEC-900D-4C96-BB51-24802983D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D6ECEF-9E3E-4B43-BB93-7A11333E6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BDFE93-21B9-46EA-8802-7B1141442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894FA9-0180-41E8-9326-737527968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F41286-1946-40FF-80CB-7CD9B5B84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0F9F6-2DA3-44FA-91C0-CE2BC6005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72D1C0-E701-4F25-BC1C-232622EE9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4D95D4-63B9-4197-A1C5-A66E0F71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A0C792-898F-482C-9F8B-4BED8AEFF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A37199-584E-450D-A20B-C64A762E7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AD9D014-13AA-403A-8161-F71F18676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58692B-FFA1-4594-A6C9-EAC0D6166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262834E-93F8-4376-9F15-E09B476D2C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DF8CF2-5535-4FCD-ABB2-2C9E2F655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F3251CB-DFB9-46CB-81FE-B619BFBA01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A9389E-FC99-4619-88BF-C36A4BFDF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F0B03-7116-4418-9C97-237B83C46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2FD5931-E62C-4B4E-AA65-DDEBE4770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CE0E59-7BA5-41E6-AB73-A3221484B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9DB0BE5-28A6-4AE9-AE16-CFDABFA87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D73366-09C8-4066-8EA7-43A0F7B03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274BFC-28AF-49B6-8EC9-0AABBF7DB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C1AD7D8-1DC5-4650-99D7-FE108D12D7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4AA71F-8EE5-45C9-B87F-3439EA377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8A8EA4-C424-4A6D-B134-C1C9BB980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6DC8B-136E-4488-8BBB-864ADC1CF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9596E-9FD3-431B-B9E8-E00F44DB7F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A6ED-5FB1-4405-9677-8B0D82BF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70437-A344-4113-B5DE-4488DC17E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840A9-7B69-464A-A54E-DD8AA0F0C0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C71FF-5BC8-44E2-A5A9-609601FD15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0B2E4-74FE-4B42-8A4B-37EEBA78A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2E7BF-975E-4730-8642-467D60F51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14A1F-E518-4E30-97B4-8F83B1BD1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8BA45A-883C-4FA3-BDD2-7DEDAD53B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105F26-9C55-413B-A2C7-6E08A07DEC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27DEEB-7EA8-468D-8DB0-1F6ED9A93A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538993-9A51-4DAA-AAAB-EEF35FBF1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25FA2-2AB8-42FF-976A-446BA8072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463289-8E49-4247-8649-C22D47DAB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C6212-E874-4583-AFB9-A6FC5CE0A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4C8A5-A0AE-4136-850E-36E4F0603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E0705-8CBC-4596-8FE2-0521ABFF5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C06164-6FC1-4270-95C2-F2DC370FB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5769C-D96C-4E77-B303-45B726F75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8E991-4D16-42D9-8558-D644DA264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619DB-5758-4547-8FA4-65624B5C3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BDD2C1-66D2-4F16-9F38-B723D3264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82C06-02C6-46E3-9961-63BC2E8D7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E8D5-BBBB-4309-89C2-D40C2B65F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C7ADA3-44E7-4685-A727-9FB603E6E9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7AE313-3051-4E48-BA1D-07D1EFECAA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07225-0BF9-4E3E-9DAE-B6F521C5B8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CBCCE-CFB0-446C-BAE0-AEE30A1C1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05D52-33C0-4D31-9436-97FB4BE96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B3551-1F9D-462F-BEB1-6E25A88D4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0C065-95A1-4B71-8093-18EC524EED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6A677-3303-438F-8CE6-DDE25A636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401F3-13EC-4B26-A58F-BEDD05F3B6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7C2BF-5492-4462-BE24-335C7C328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E807-9B93-4F1C-8101-00B5156B4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79BB13-7521-47C6-9E1E-2B24411824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CF011B-C627-41DB-99C6-0CB6803C28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A9C3F0-453F-4B48-85D3-2A48B7FEE0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044114-2A1E-42E5-82C4-6A83FABE52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0C6A0-D035-44CD-B051-82AE1554B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4E828-7D3C-4784-8673-10AE83253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779AA-ADC7-4CD9-909E-89CEA23EA8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9BEF48-EF0C-4D05-97E6-FE44359E6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C3094-9E1E-49E1-A1E3-4D8A54BF53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8E409-2C2F-4499-BB69-2428682A0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11F96-2E69-4A32-BEE7-866C8391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8C420F-EE70-45C7-9567-4888D51B6C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C6F23-7D4E-41A9-B6AC-0519E13A5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60B16-686D-40F6-B61A-B32264C216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6382D1-C1B5-4E1B-99A7-FDDF30902B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5A429-FCCA-4655-8EF0-4B9B9A9B52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C41ABE2-CEA5-44CE-A820-EBD13A0EC4B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2365FED-BCA8-427B-ACFF-8464DDA74B9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43541F-E62E-4B57-94D4-713D96CE5D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54249C-AE75-474A-9895-308DE69369F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F1321A6-8F21-4BA4-88C0-DD3CF57D17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73AA7-0A14-4193-807A-C4D781625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482D9B-193C-48DA-B12C-0D91123F3A7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3DC98B-BF26-4DA2-BAEF-7ACF9C3BB5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DA4130-86AD-48BD-AF07-4A72D751A0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212CF8-F2DE-4DF6-9F12-7C2A6702C01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0CE508-8885-41A1-BA01-92E5262EE1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B605855-5149-4157-B47C-7CC3C19D4F4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A7BA940-D0D7-44C9-8274-A30907E0B78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587C462-63CB-4352-98D9-2F3B303C483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502CDFE-1BE5-4F6F-9DB8-9911933571D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8A1D7A-D413-4180-B94B-292E04537639}"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F355-C903-4588-90B0-8ED10892AE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20" name=""/>
          <p:cNvGrpSpPr/>
          <p:nvPr/>
        </p:nvGrpSpPr>
        <p:grpSpPr>
          <a:xfrm>
            <a:off x="0" y="0"/>
            <a:ext cx="9159840" cy="6858000"/>
            <a:chOff x="0" y="0"/>
            <a:chExt cx="9159840" cy="6858000"/>
          </a:xfrm>
        </p:grpSpPr>
        <p:sp>
          <p:nvSpPr>
            <p:cNvPr id="5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54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4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4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62AB-8D63-4C31-A059-08160261400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582" name=""/>
          <p:cNvGrpSpPr/>
          <p:nvPr/>
        </p:nvGrpSpPr>
        <p:grpSpPr>
          <a:xfrm>
            <a:off x="0" y="0"/>
            <a:ext cx="9142560" cy="6856560"/>
            <a:chOff x="0" y="0"/>
            <a:chExt cx="9142560" cy="6856560"/>
          </a:xfrm>
        </p:grpSpPr>
        <p:sp>
          <p:nvSpPr>
            <p:cNvPr id="583"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4" name=""/>
            <p:cNvGrpSpPr/>
            <p:nvPr/>
          </p:nvGrpSpPr>
          <p:grpSpPr>
            <a:xfrm>
              <a:off x="0" y="0"/>
              <a:ext cx="9142560" cy="6856560"/>
              <a:chOff x="0" y="0"/>
              <a:chExt cx="9142560" cy="6856560"/>
            </a:xfrm>
          </p:grpSpPr>
          <p:sp>
            <p:nvSpPr>
              <p:cNvPr id="585"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6"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7"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8"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89"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0"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1"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2"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3"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94"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7"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9"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0"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1"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2"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3"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4"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05"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6"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7"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8"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9"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610" name=""/>
              <p:cNvGrpSpPr/>
              <p:nvPr/>
            </p:nvGrpSpPr>
            <p:grpSpPr>
              <a:xfrm>
                <a:off x="0" y="0"/>
                <a:ext cx="9140760" cy="1658880"/>
                <a:chOff x="0" y="0"/>
                <a:chExt cx="9140760" cy="1658880"/>
              </a:xfrm>
            </p:grpSpPr>
            <p:sp>
              <p:nvSpPr>
                <p:cNvPr id="611"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6" name=""/>
              <p:cNvGrpSpPr/>
              <p:nvPr/>
            </p:nvGrpSpPr>
            <p:grpSpPr>
              <a:xfrm>
                <a:off x="0" y="885960"/>
                <a:ext cx="9140760" cy="772920"/>
                <a:chOff x="0" y="885960"/>
                <a:chExt cx="9140760" cy="772920"/>
              </a:xfrm>
            </p:grpSpPr>
            <p:sp>
              <p:nvSpPr>
                <p:cNvPr id="627"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9" name=""/>
              <p:cNvGrpSpPr/>
              <p:nvPr/>
            </p:nvGrpSpPr>
            <p:grpSpPr>
              <a:xfrm>
                <a:off x="419040" y="1649520"/>
                <a:ext cx="8255160" cy="5207040"/>
                <a:chOff x="419040" y="1649520"/>
                <a:chExt cx="8255160" cy="5207040"/>
              </a:xfrm>
            </p:grpSpPr>
            <p:sp>
              <p:nvSpPr>
                <p:cNvPr id="630"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9"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8" name="PlaceHolder 2"/>
          <p:cNvSpPr>
            <a:spLocks noGrp="1"/>
          </p:cNvSpPr>
          <p:nvPr>
            <p:ph type="dt" idx="3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49" name="PlaceHolder 3"/>
          <p:cNvSpPr>
            <a:spLocks noGrp="1"/>
          </p:cNvSpPr>
          <p:nvPr>
            <p:ph type="ftr" idx="3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50" name="PlaceHolder 4"/>
          <p:cNvSpPr>
            <a:spLocks noGrp="1"/>
          </p:cNvSpPr>
          <p:nvPr>
            <p:ph type="sldNum" idx="3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7D93-B283-4311-B17D-01506BD30FB5}"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51"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688" name=""/>
          <p:cNvGrpSpPr/>
          <p:nvPr/>
        </p:nvGrpSpPr>
        <p:grpSpPr>
          <a:xfrm>
            <a:off x="0" y="0"/>
            <a:ext cx="9142560" cy="6856560"/>
            <a:chOff x="0" y="0"/>
            <a:chExt cx="9142560" cy="6856560"/>
          </a:xfrm>
        </p:grpSpPr>
        <p:sp>
          <p:nvSpPr>
            <p:cNvPr id="68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
            <p:cNvGrpSpPr/>
            <p:nvPr/>
          </p:nvGrpSpPr>
          <p:grpSpPr>
            <a:xfrm>
              <a:off x="0" y="0"/>
              <a:ext cx="9142560" cy="6856560"/>
              <a:chOff x="0" y="0"/>
              <a:chExt cx="9142560" cy="6856560"/>
            </a:xfrm>
          </p:grpSpPr>
          <p:sp>
            <p:nvSpPr>
              <p:cNvPr id="69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9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9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9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9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0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0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1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716" name=""/>
              <p:cNvGrpSpPr/>
              <p:nvPr/>
            </p:nvGrpSpPr>
            <p:grpSpPr>
              <a:xfrm>
                <a:off x="0" y="0"/>
                <a:ext cx="9140760" cy="1658880"/>
                <a:chOff x="0" y="0"/>
                <a:chExt cx="9140760" cy="1658880"/>
              </a:xfrm>
            </p:grpSpPr>
            <p:sp>
              <p:nvSpPr>
                <p:cNvPr id="71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2" name=""/>
              <p:cNvGrpSpPr/>
              <p:nvPr/>
            </p:nvGrpSpPr>
            <p:grpSpPr>
              <a:xfrm>
                <a:off x="0" y="885960"/>
                <a:ext cx="9140760" cy="772920"/>
                <a:chOff x="0" y="885960"/>
                <a:chExt cx="9140760" cy="772920"/>
              </a:xfrm>
            </p:grpSpPr>
            <p:sp>
              <p:nvSpPr>
                <p:cNvPr id="73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5" name=""/>
              <p:cNvGrpSpPr/>
              <p:nvPr/>
            </p:nvGrpSpPr>
            <p:grpSpPr>
              <a:xfrm>
                <a:off x="419040" y="1649520"/>
                <a:ext cx="8255160" cy="5207040"/>
                <a:chOff x="419040" y="1649520"/>
                <a:chExt cx="8255160" cy="5207040"/>
              </a:xfrm>
            </p:grpSpPr>
            <p:sp>
              <p:nvSpPr>
                <p:cNvPr id="73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5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54" name="PlaceHolder 2"/>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755" name="PlaceHolder 3"/>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756" name="PlaceHolder 4"/>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7B44-0635-43D4-8EB1-E6882E40F7C1}"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5A18-B3C6-40DA-87EB-3D082128F2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2"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827C-2049-4690-94FA-2AB62FF638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23" name=""/>
          <p:cNvGrpSpPr/>
          <p:nvPr/>
        </p:nvGrpSpPr>
        <p:grpSpPr>
          <a:xfrm>
            <a:off x="0" y="0"/>
            <a:ext cx="9140760" cy="6850080"/>
            <a:chOff x="0" y="0"/>
            <a:chExt cx="9140760" cy="6850080"/>
          </a:xfrm>
        </p:grpSpPr>
        <p:grpSp>
          <p:nvGrpSpPr>
            <p:cNvPr id="124" name=""/>
            <p:cNvGrpSpPr/>
            <p:nvPr/>
          </p:nvGrpSpPr>
          <p:grpSpPr>
            <a:xfrm>
              <a:off x="2743200" y="3540240"/>
              <a:ext cx="6392880" cy="3309840"/>
              <a:chOff x="2743200" y="3540240"/>
              <a:chExt cx="6392880" cy="3309840"/>
            </a:xfrm>
          </p:grpSpPr>
          <p:sp>
            <p:nvSpPr>
              <p:cNvPr id="12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3"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0" y="0"/>
            <a:ext cx="9140760" cy="6850080"/>
            <a:chOff x="0" y="0"/>
            <a:chExt cx="9140760" cy="6850080"/>
          </a:xfrm>
        </p:grpSpPr>
        <p:grpSp>
          <p:nvGrpSpPr>
            <p:cNvPr id="172" name=""/>
            <p:cNvGrpSpPr/>
            <p:nvPr/>
          </p:nvGrpSpPr>
          <p:grpSpPr>
            <a:xfrm>
              <a:off x="2743200" y="3540240"/>
              <a:ext cx="6392880" cy="3309840"/>
              <a:chOff x="2743200" y="3540240"/>
              <a:chExt cx="6392880" cy="3309840"/>
            </a:xfrm>
          </p:grpSpPr>
          <p:sp>
            <p:nvSpPr>
              <p:cNvPr id="17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81"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2"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3"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A020-7E6F-4304-B645-F0ACE6233A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20" name=""/>
          <p:cNvGrpSpPr/>
          <p:nvPr/>
        </p:nvGrpSpPr>
        <p:grpSpPr>
          <a:xfrm>
            <a:off x="1440" y="0"/>
            <a:ext cx="9149040" cy="6851520"/>
            <a:chOff x="1440" y="0"/>
            <a:chExt cx="9149040" cy="6851520"/>
          </a:xfrm>
        </p:grpSpPr>
        <p:sp>
          <p:nvSpPr>
            <p:cNvPr id="22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
            <p:cNvGrpSpPr/>
            <p:nvPr/>
          </p:nvGrpSpPr>
          <p:grpSpPr>
            <a:xfrm>
              <a:off x="457200" y="0"/>
              <a:ext cx="8093160" cy="6851520"/>
              <a:chOff x="457200" y="0"/>
              <a:chExt cx="8093160" cy="6851520"/>
            </a:xfrm>
          </p:grpSpPr>
          <p:sp>
            <p:nvSpPr>
              <p:cNvPr id="22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440" y="622440"/>
              <a:ext cx="9141120" cy="2493720"/>
              <a:chOff x="1440" y="622440"/>
              <a:chExt cx="9141120" cy="2493720"/>
            </a:xfrm>
          </p:grpSpPr>
          <p:sp>
            <p:nvSpPr>
              <p:cNvPr id="25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58"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59"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60"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79A9-B4EA-4277-9AFD-A85F5377A8F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6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8320" cy="6851520"/>
            <a:chOff x="0" y="0"/>
            <a:chExt cx="9148320" cy="6851520"/>
          </a:xfrm>
        </p:grpSpPr>
        <p:sp>
          <p:nvSpPr>
            <p:cNvPr id="29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455400" y="0"/>
              <a:ext cx="8092440" cy="6851520"/>
              <a:chOff x="455400" y="0"/>
              <a:chExt cx="8092440" cy="6851520"/>
            </a:xfrm>
          </p:grpSpPr>
          <p:sp>
            <p:nvSpPr>
              <p:cNvPr id="30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
            <p:cNvGrpSpPr/>
            <p:nvPr/>
          </p:nvGrpSpPr>
          <p:grpSpPr>
            <a:xfrm>
              <a:off x="0" y="622440"/>
              <a:ext cx="9140760" cy="2493720"/>
              <a:chOff x="0" y="622440"/>
              <a:chExt cx="9140760" cy="2493720"/>
            </a:xfrm>
          </p:grpSpPr>
          <p:sp>
            <p:nvSpPr>
              <p:cNvPr id="32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36"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3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8"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AE1E-15EC-4FC3-B408-E6CCA8A5C6E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4264-5396-48DF-8766-8C461E02B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7"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9"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B236-2076-4AB6-8176-3DCC9F002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0"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57" name=""/>
          <p:cNvGrpSpPr/>
          <p:nvPr/>
        </p:nvGrpSpPr>
        <p:grpSpPr>
          <a:xfrm>
            <a:off x="0" y="0"/>
            <a:ext cx="9159840" cy="6858000"/>
            <a:chOff x="0" y="0"/>
            <a:chExt cx="9159840" cy="6858000"/>
          </a:xfrm>
        </p:grpSpPr>
        <p:sp>
          <p:nvSpPr>
            <p:cNvPr id="45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82"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BF87-4FEA-4FC6-AF43-46284E4D6A5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83"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umanie</a:t>
            </a: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La Roumanie est située au sud-est du Europe. Voisins de la Roumanie sont la Bulgarie, la Moldavie, la Hongrie et la Serbie.Elle est une pays Carpato-Danubienne- Pontica.</a:t>
            </a:r>
            <a:endParaRPr b="0" lang="en-US" sz="2800" spc="-1" strike="noStrike">
              <a:solidFill>
                <a:srgbClr val="ffffff"/>
              </a:solidFill>
              <a:latin typeface="Verdana"/>
            </a:endParaRPr>
          </a:p>
        </p:txBody>
      </p:sp>
      <p:pic>
        <p:nvPicPr>
          <p:cNvPr id="795" name="" descr=""/>
          <p:cNvPicPr/>
          <p:nvPr/>
        </p:nvPicPr>
        <p:blipFill>
          <a:blip r:embed="rId1"/>
          <a:stretch/>
        </p:blipFill>
        <p:spPr>
          <a:xfrm>
            <a:off x="4648320" y="2432160"/>
            <a:ext cx="4038480" cy="28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usée de l'Histoire</a:t>
            </a:r>
            <a:endParaRPr b="0" lang="en-US" sz="4400" spc="-1" strike="noStrike">
              <a:solidFill>
                <a:srgbClr val="ccecff"/>
              </a:solidFill>
              <a:latin typeface="Arial"/>
            </a:endParaRPr>
          </a:p>
        </p:txBody>
      </p:sp>
      <p:pic>
        <p:nvPicPr>
          <p:cNvPr id="820" name="" descr=""/>
          <p:cNvPicPr/>
          <p:nvPr/>
        </p:nvPicPr>
        <p:blipFill>
          <a:blip r:embed="rId1"/>
          <a:stretch/>
        </p:blipFill>
        <p:spPr>
          <a:xfrm>
            <a:off x="1143000" y="1981080"/>
            <a:ext cx="6781680" cy="452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ontagnes des Carpates</a:t>
            </a:r>
            <a:endParaRPr b="0" lang="en-US" sz="4400" spc="-1" strike="noStrike">
              <a:solidFill>
                <a:srgbClr val="e3e3ff"/>
              </a:solidFill>
              <a:latin typeface="Arial"/>
            </a:endParaRPr>
          </a:p>
        </p:txBody>
      </p:sp>
      <p:sp>
        <p:nvSpPr>
          <p:cNvPr id="79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arpates sont plus âgés Deux cent quatre millions annee. Ils atteignent une hauteur de </a:t>
            </a:r>
            <a:r>
              <a:rPr b="0" lang="en-US" sz="2800" spc="-1" strike="noStrike">
                <a:solidFill>
                  <a:srgbClr val="ffffff"/>
                </a:solidFill>
                <a:latin typeface="Arial"/>
              </a:rPr>
              <a:t>deux mille </a:t>
            </a:r>
            <a:r>
              <a:rPr b="0" lang="fr-FR" sz="2800" spc="-1" strike="noStrike">
                <a:solidFill>
                  <a:srgbClr val="ffffff"/>
                </a:solidFill>
                <a:latin typeface="Arial"/>
              </a:rPr>
              <a:t> cinq cent. Carpates sont une grande attraction touristique avec de nombreuses stations balnéaires.</a:t>
            </a:r>
            <a:endParaRPr b="0" lang="en-US" sz="2800" spc="-1" strike="noStrike">
              <a:solidFill>
                <a:srgbClr val="ffffff"/>
              </a:solidFill>
              <a:latin typeface="Arial"/>
            </a:endParaRPr>
          </a:p>
        </p:txBody>
      </p:sp>
      <p:pic>
        <p:nvPicPr>
          <p:cNvPr id="798" name="" descr=""/>
          <p:cNvPicPr/>
          <p:nvPr/>
        </p:nvPicPr>
        <p:blipFill>
          <a:blip r:embed="rId1"/>
          <a:stretch/>
        </p:blipFill>
        <p:spPr>
          <a:xfrm>
            <a:off x="4648320" y="190512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lta du Danube</a:t>
            </a:r>
            <a:endParaRPr b="1" lang="en-US" sz="4400" spc="-1" strike="noStrike">
              <a:solidFill>
                <a:srgbClr val="e5e5ff"/>
              </a:solidFill>
              <a:latin typeface="Garamond"/>
            </a:endParaRPr>
          </a:p>
        </p:txBody>
      </p:sp>
      <p:sp>
        <p:nvSpPr>
          <p:cNvPr id="8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ta du Danube est plus grande delta de Europe.</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fr-FR" sz="2800" spc="-1" strike="noStrike">
                <a:solidFill>
                  <a:srgbClr val="ffffff"/>
                </a:solidFill>
                <a:latin typeface="Garamond"/>
              </a:rPr>
              <a:t>C'est une faune et une flore impressionnantes.</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    </a:t>
            </a:r>
            <a:r>
              <a:rPr b="0" lang="fr-FR" sz="2800" spc="-1" strike="noStrike">
                <a:solidFill>
                  <a:srgbClr val="ffffff"/>
                </a:solidFill>
                <a:latin typeface="Garamond"/>
              </a:rPr>
              <a:t>Danube se jette dans la mer Noire par les trois branches: Chilia, Sulina et Saint Gheorghe.</a:t>
            </a:r>
            <a:endParaRPr b="0" lang="en-US" sz="2800" spc="-1" strike="noStrike">
              <a:solidFill>
                <a:srgbClr val="ffffff"/>
              </a:solidFill>
              <a:latin typeface="Garamond"/>
            </a:endParaRPr>
          </a:p>
        </p:txBody>
      </p:sp>
      <p:pic>
        <p:nvPicPr>
          <p:cNvPr id="801" name="" descr=""/>
          <p:cNvPicPr/>
          <p:nvPr/>
        </p:nvPicPr>
        <p:blipFill>
          <a:blip r:embed="rId1"/>
          <a:stretch/>
        </p:blipFill>
        <p:spPr>
          <a:xfrm>
            <a:off x="685800" y="1393920"/>
            <a:ext cx="3429000" cy="2400120"/>
          </a:xfrm>
          <a:prstGeom prst="rect">
            <a:avLst/>
          </a:prstGeom>
          <a:ln w="0">
            <a:noFill/>
          </a:ln>
        </p:spPr>
      </p:pic>
      <p:pic>
        <p:nvPicPr>
          <p:cNvPr id="802" name="" descr=""/>
          <p:cNvPicPr/>
          <p:nvPr/>
        </p:nvPicPr>
        <p:blipFill>
          <a:blip r:embed="rId2"/>
          <a:stretch/>
        </p:blipFill>
        <p:spPr>
          <a:xfrm>
            <a:off x="685800" y="3938760"/>
            <a:ext cx="3425760" cy="229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r Noire</a:t>
            </a:r>
            <a:endParaRPr b="0" lang="en-US" sz="4400" spc="-1" strike="noStrike">
              <a:solidFill>
                <a:srgbClr val="ffffff"/>
              </a:solidFill>
              <a:latin typeface="Tahoma"/>
            </a:endParaRPr>
          </a:p>
        </p:txBody>
      </p:sp>
      <p:sp>
        <p:nvSpPr>
          <p:cNvPr id="804"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ans le Sud-Est est de la Roumanie est ouvert à le Mer Noir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fr-FR" sz="2800" spc="-1" strike="noStrike">
                <a:solidFill>
                  <a:srgbClr val="ffffff"/>
                </a:solidFill>
                <a:latin typeface="Tahoma"/>
              </a:rPr>
              <a:t>Il relie l'Europe et l'Asie. La mer Noire est le perle de tourisme roumain.</a:t>
            </a:r>
            <a:endParaRPr b="0" lang="en-US" sz="2800" spc="-1" strike="noStrike">
              <a:solidFill>
                <a:srgbClr val="ffffff"/>
              </a:solidFill>
              <a:latin typeface="Tahoma"/>
            </a:endParaRPr>
          </a:p>
        </p:txBody>
      </p:sp>
      <p:pic>
        <p:nvPicPr>
          <p:cNvPr id="805" name="" descr=""/>
          <p:cNvPicPr/>
          <p:nvPr/>
        </p:nvPicPr>
        <p:blipFill>
          <a:blip r:embed="rId2"/>
          <a:stretch/>
        </p:blipFill>
        <p:spPr>
          <a:xfrm>
            <a:off x="1143000" y="1676520"/>
            <a:ext cx="2895480" cy="2170080"/>
          </a:xfrm>
          <a:prstGeom prst="rect">
            <a:avLst/>
          </a:prstGeom>
          <a:ln w="0">
            <a:noFill/>
          </a:ln>
        </p:spPr>
      </p:pic>
      <p:pic>
        <p:nvPicPr>
          <p:cNvPr id="806" name="" descr=""/>
          <p:cNvPicPr/>
          <p:nvPr/>
        </p:nvPicPr>
        <p:blipFill>
          <a:blip r:embed="rId3"/>
          <a:stretch/>
        </p:blipFill>
        <p:spPr>
          <a:xfrm>
            <a:off x="1143000" y="39625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racula</a:t>
            </a: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marque la plus célèbre de la Roumanie est le Conte Dracula. Il était le prince de Transylvanie. Dracula était un jugement cette criminels punissant de mort. Il dit aussi que c'est un vampire.</a:t>
            </a:r>
            <a:endParaRPr b="0" lang="en-US" sz="2800" spc="-1" strike="noStrike">
              <a:solidFill>
                <a:srgbClr val="ffffff"/>
              </a:solidFill>
              <a:latin typeface="Tahoma"/>
            </a:endParaRPr>
          </a:p>
        </p:txBody>
      </p:sp>
      <p:pic>
        <p:nvPicPr>
          <p:cNvPr id="809" name="" descr=""/>
          <p:cNvPicPr/>
          <p:nvPr/>
        </p:nvPicPr>
        <p:blipFill>
          <a:blip r:embed="rId1"/>
          <a:stretch/>
        </p:blipFill>
        <p:spPr>
          <a:xfrm>
            <a:off x="4800600" y="2057400"/>
            <a:ext cx="3809880" cy="347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Bucarest</a:t>
            </a:r>
            <a:endParaRPr b="0" lang="en-US" sz="4400" spc="-1" strike="noStrike">
              <a:solidFill>
                <a:srgbClr val="ccecff"/>
              </a:solidFill>
              <a:latin typeface="Arial"/>
            </a:endParaRPr>
          </a:p>
        </p:txBody>
      </p:sp>
      <p:sp>
        <p:nvSpPr>
          <p:cNvPr id="811"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Arial"/>
              </a:rPr>
              <a:t>Capitale de la Roumanie est Bucarest </a:t>
            </a:r>
            <a:r>
              <a:rPr b="0" lang="en-US" sz="2800" spc="-1" strike="noStrike">
                <a:solidFill>
                  <a:srgbClr val="eaeaea"/>
                </a:solidFill>
                <a:latin typeface="Arial"/>
              </a:rPr>
              <a:t>est appelé  le “Petit Paris”. </a:t>
            </a:r>
            <a:r>
              <a:rPr b="0" lang="fr-FR" sz="2800" spc="-1" strike="noStrike">
                <a:solidFill>
                  <a:srgbClr val="eaeaea"/>
                </a:solidFill>
                <a:latin typeface="Arial"/>
              </a:rPr>
              <a:t>Bucarest a de nombreux parcs,muzee et monuments historiques tels que:</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812" name="" descr=""/>
          <p:cNvPicPr/>
          <p:nvPr/>
        </p:nvPicPr>
        <p:blipFill>
          <a:blip r:embed="rId1"/>
          <a:stretch/>
        </p:blipFill>
        <p:spPr>
          <a:xfrm>
            <a:off x="4862520" y="1979640"/>
            <a:ext cx="3781440" cy="39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Athenaeum</a:t>
            </a:r>
            <a:endParaRPr b="0" lang="en-US" sz="4400" spc="-1" strike="noStrike">
              <a:solidFill>
                <a:srgbClr val="ccecff"/>
              </a:solidFill>
              <a:latin typeface="Arial"/>
            </a:endParaRPr>
          </a:p>
        </p:txBody>
      </p:sp>
      <p:pic>
        <p:nvPicPr>
          <p:cNvPr id="814" name="" descr=""/>
          <p:cNvPicPr/>
          <p:nvPr/>
        </p:nvPicPr>
        <p:blipFill>
          <a:blip r:embed="rId1"/>
          <a:stretch/>
        </p:blipFill>
        <p:spPr>
          <a:xfrm>
            <a:off x="1828800" y="160020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lais Parlament</a:t>
            </a:r>
            <a:endParaRPr b="0" lang="en-US" sz="4400" spc="-1" strike="noStrike">
              <a:solidFill>
                <a:srgbClr val="ccecff"/>
              </a:solidFill>
              <a:latin typeface="Arial"/>
            </a:endParaRPr>
          </a:p>
        </p:txBody>
      </p:sp>
      <p:pic>
        <p:nvPicPr>
          <p:cNvPr id="816" name="" descr=""/>
          <p:cNvPicPr/>
          <p:nvPr/>
        </p:nvPicPr>
        <p:blipFill>
          <a:blip r:embed="rId1"/>
          <a:stretch/>
        </p:blipFill>
        <p:spPr>
          <a:xfrm>
            <a:off x="1600200" y="1884240"/>
            <a:ext cx="59436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c du Triomphe</a:t>
            </a:r>
            <a:endParaRPr b="0" lang="en-US" sz="4400" spc="-1" strike="noStrike">
              <a:solidFill>
                <a:srgbClr val="ccecff"/>
              </a:solidFill>
              <a:latin typeface="Arial"/>
            </a:endParaRPr>
          </a:p>
        </p:txBody>
      </p:sp>
      <p:pic>
        <p:nvPicPr>
          <p:cNvPr id="818" name="" descr=""/>
          <p:cNvPicPr/>
          <p:nvPr/>
        </p:nvPicPr>
        <p:blipFill>
          <a:blip r:embed="rId1"/>
          <a:stretch/>
        </p:blipFill>
        <p:spPr>
          <a:xfrm>
            <a:off x="2438280" y="1600200"/>
            <a:ext cx="422604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GI</cp:lastModifiedBy>
  <dcterms:modified xsi:type="dcterms:W3CDTF">2012-05-07T19:24:16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